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44FB-0F36-4277-AB5A-8FFC4B6C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C56-F35A-47C4-B4EB-719C2245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62A4-EAAA-4428-8521-83164C61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5E0D-C900-436C-8325-DD24BE3F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FE30-BCA7-4B1B-B47E-FB4041EC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8A84-C253-44C1-9523-937FA38F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2815-BAC7-4B72-AD9F-7E67F66B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FD60-E770-4740-9EE6-F02B1C69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2C59-D1DE-40B0-9FFF-6C436001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9000-BE34-45FA-92E3-309AAD8C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5204-DB6C-41EF-B477-D7E907C3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EA48-BFF6-4510-8F15-FDEAE101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79A5-1584-4FF7-A04C-47A65A77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26D6-1C41-45C5-8B06-C11BBCB9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BA69-1AFA-4939-B9EB-4922EB9A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C064-E4AA-4342-9A06-7214DD6E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ADF0-C49B-46C1-B73E-B89518C5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0589-31F1-48F1-98CF-AB85F129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7BB3-E617-44A7-A3EC-4936A83F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DB40-16C2-4450-8DB3-2A900889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43FC-5D78-4BF2-83E5-DBE623AD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DD9-ECBD-4D39-9BD7-54E7ABE6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3A4B-4879-4C48-907C-BB3C7E8F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5CB6-EE63-4ACA-87CD-06ADA52A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149F-BABE-4B62-9316-3E6B70B4A3B0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83AA-88F1-47E5-8F7C-A144F42D1FCC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685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600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1219320"/>
            <a:ext cx="876312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gime de concess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quando depender de portaria de concessão do Ministro de Estado de Minas e Energi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gime de autoriz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quando depender de expedição de alvará de autorização do Diretor Geral do Departamento Nacional de Produção Mineral – DNP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II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gime de licenciament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quando depender de licença expedida em obediência a regulamentos administrativos locais e de registro da licença no Departamento Nacional de Produção Mineral – DNP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V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gime de permissão de lavra garimp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quando depender de portaria de permissão do Diretor Geral do Departamento Nacional de Produção Mineral – DNP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- regime de monopolização, quando, em virtude de lei especial, depender de execução direta ou indireta do Governo Feder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arágrafo úni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O disposto neste artigo não se aplica aos órgãos da administração direta e autárquica da União, dos Estado, do Distrito Federal e dos Municípios, sendo-lhes permitida a extração de substâncias minerais de emprego imediato na construção civil, definidas em Portaria do Ministério de Minas e Energia, para uso exclusivo em obras públicas por eles executadas diretamente, respeitados os direitos minerários em vigor nas áreas onde devam ser executadas as obras e vedada a comercialização.(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gime de extr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9907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9640" y="200160"/>
            <a:ext cx="759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to-Lei n° 227/67 – Código de Miner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. 2° - Os regimes de aproveitamento das substâncias minerai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efeito deste Código sã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45:56Z</dcterms:created>
  <dc:creator>Alexandre Braule</dc:creator>
  <dc:description/>
  <dc:language>en-US</dc:language>
  <cp:lastModifiedBy>Alexandre Braule</cp:lastModifiedBy>
  <dcterms:modified xsi:type="dcterms:W3CDTF">2004-08-10T22:51:09Z</dcterms:modified>
  <cp:revision>76</cp:revision>
  <dc:subject/>
  <dc:title>Apresentação do PowerPoint</dc:title>
</cp:coreProperties>
</file>